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BEA4-0113-4C78-8F04-1D4F3F0307B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495D-25A4-472A-8216-CEC6A51A2E4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F3B9-6325-4F19-B6E8-7480ACD1A5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4A103-5D19-4BB6-8796-B0FEC4A03EB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8C1C-67D7-4861-9116-58FA43E4822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7CBD-E83A-41B9-8C5F-741235049CC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90B5-736A-48E4-A6F3-32EE99875CF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7A21-7FA5-4659-8C0C-7185838A4F4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E785-A827-4ED3-AD01-FDFF0B5CBC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BC46-244C-4462-B1E0-9735C675D6D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2710-D70E-4F5A-9901-CC64E4B4F23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74D1-A791-4C1C-898C-838DD870FB9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7618-1572-4EE7-842D-998F437D04A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F162-917F-4EC8-81D9-2A874648CDC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599E-08DE-4B5F-8CAB-2F1279119F0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C210-79CF-4BAB-9A04-6C964444431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01AB-3F49-4C89-BFAA-4A7A290E878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B2AE-AD71-4C70-AE7B-521DEF05002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9CC5-2814-46F3-8C0B-739881D75A4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D034-9CD8-4E85-A811-B51698DC304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12ACD-F373-4375-AFED-3550D807012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9CB2-BF2F-4090-A83E-4B0CC1A46F5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EF35-7797-4DE6-B6AB-F75546A638C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8D73-6A75-44FD-9F07-B9CD1F1B8A7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43B3-9245-4406-A0F4-6115812ADEE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6DC1-0BAF-44D7-A402-86EDA2B48C5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D52F4-573D-4A22-8E00-3DF846A52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27E17-852C-46E9-B3A6-D5E3B612A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E9EB7-7522-4845-87B3-17BEA4F3D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98229-3996-4FCA-8D34-58C02BE9A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7632D-D5A8-4C66-A45F-B72D5CAA3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023D0-DBEA-4048-BDD8-A424E71D1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E25F4-FE57-4F95-85AB-C2CC7DE0B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AF53F-92BA-44A4-B9AB-3BC84848A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4F478-5566-4344-93ED-10171511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3A3B5-32A1-40FE-8057-484248B3C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189A4-44DF-44ED-B529-F5D68E781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C4EB-0578-45C7-82A0-870F08A8F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A62A-5A9E-490E-9B3E-E57E7AFBD2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tinuing Comprehension Teaching and Learn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143000" y="378576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ddon/Mallee October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ocuses for teaching and learning </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of texts (level, range, genres, type of tex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m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on (each strategy plus combination of strategies/metacogni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691920"/>
            <a:ext cx="821844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eaching and assessment cycle – always for authentic reading purposes</a:t>
            </a:r>
            <a:endParaRPr b="0" lang="en-US" sz="4000" spc="-1" strike="noStrike">
              <a:solidFill>
                <a:srgbClr val="000000"/>
              </a:solidFill>
              <a:latin typeface="Arial"/>
            </a:endParaRPr>
          </a:p>
        </p:txBody>
      </p:sp>
      <p:sp>
        <p:nvSpPr>
          <p:cNvPr id="69"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ole class: Read aloud</a:t>
            </a:r>
            <a:r>
              <a:rPr b="0" lang="en-US" sz="2400" spc="-1" strike="noStrike">
                <a:solidFill>
                  <a:srgbClr val="000000"/>
                </a:solidFill>
                <a:latin typeface="Arial"/>
              </a:rPr>
              <a:t> – explicit demonstration</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ole class: Shared reading</a:t>
            </a:r>
            <a:r>
              <a:rPr b="0" lang="en-US" sz="2400" spc="-1" strike="noStrike">
                <a:solidFill>
                  <a:srgbClr val="000000"/>
                </a:solidFill>
                <a:latin typeface="Arial"/>
              </a:rPr>
              <a:t> – teachers and students collaboratively using strategy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ependent reading</a:t>
            </a:r>
            <a:r>
              <a:rPr b="0" lang="en-US" sz="2400" spc="-1" strike="noStrike">
                <a:solidFill>
                  <a:srgbClr val="000000"/>
                </a:solidFill>
                <a:latin typeface="Arial"/>
              </a:rPr>
              <a:t> –  students using strategy while reading; teacher confers with students to assess strengths and needs/teaches “on-the-spot”; students articulate what they are doing; recorded for student and teacher; teacher plans further teaching</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dditional scaffolded assistance for small groups based on needs – </a:t>
            </a:r>
            <a:r>
              <a:rPr b="0" lang="en-US" sz="2400" spc="-1" strike="noStrike">
                <a:solidFill>
                  <a:srgbClr val="000000"/>
                </a:solidFill>
                <a:latin typeface="Arial"/>
              </a:rPr>
              <a:t>eg. Guided Reading; routines such as SQ3R, DRTA, Reciprocal Teaching, QAR, SAIL; Vocab, fluency, decoding work; how to select texts to read; etc</a:t>
            </a:r>
            <a:endParaRPr b="0" lang="en-US" sz="2400" spc="-1" strike="noStrike">
              <a:solidFill>
                <a:srgbClr val="000000"/>
              </a:solidFill>
              <a:latin typeface="Arial"/>
            </a:endParaRPr>
          </a:p>
          <a:p>
            <a:pPr marL="343080" indent="-3430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Whole cla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onferring</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en</a:t>
            </a:r>
            <a:r>
              <a:rPr b="0" lang="en-US" sz="2800" spc="-1" strike="noStrike">
                <a:solidFill>
                  <a:srgbClr val="000000"/>
                </a:solidFill>
                <a:latin typeface="Arial"/>
              </a:rPr>
              <a:t> – whenever students are reading, in all domains</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o with</a:t>
            </a:r>
            <a:r>
              <a:rPr b="0" lang="en-US" sz="2800" spc="-1" strike="noStrike">
                <a:solidFill>
                  <a:srgbClr val="000000"/>
                </a:solidFill>
                <a:latin typeface="Arial"/>
              </a:rPr>
              <a:t> – all students over time, more often with some</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at to find out</a:t>
            </a:r>
            <a:r>
              <a:rPr b="0" lang="en-US" sz="2800" spc="-1" strike="noStrike">
                <a:solidFill>
                  <a:srgbClr val="000000"/>
                </a:solidFill>
                <a:latin typeface="Arial"/>
              </a:rPr>
              <a:t> – refer to Reading Curriculum</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How to find out</a:t>
            </a:r>
            <a:r>
              <a:rPr b="0" lang="en-US" sz="2800" spc="-1" strike="noStrike">
                <a:solidFill>
                  <a:srgbClr val="000000"/>
                </a:solidFill>
                <a:latin typeface="Arial"/>
              </a:rPr>
              <a:t> – what assessment is suitable for each aspect of reading?</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How to record</a:t>
            </a:r>
            <a:r>
              <a:rPr b="0" lang="en-US" sz="2800" spc="-1" strike="noStrike">
                <a:solidFill>
                  <a:srgbClr val="000000"/>
                </a:solidFill>
                <a:latin typeface="Arial"/>
              </a:rPr>
              <a:t> for students and for planning</a:t>
            </a:r>
            <a:endParaRPr b="0" lang="en-US" sz="2800" spc="-1" strike="noStrike">
              <a:solidFill>
                <a:srgbClr val="000000"/>
              </a:solidFill>
              <a:latin typeface="Arial"/>
            </a:endParaRPr>
          </a:p>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at teaching</a:t>
            </a:r>
            <a:r>
              <a:rPr b="0" lang="en-US" sz="2800" spc="-1" strike="noStrike">
                <a:solidFill>
                  <a:srgbClr val="000000"/>
                </a:solidFill>
                <a:latin typeface="Arial"/>
              </a:rPr>
              <a:t> is then required? Selecting suitable work depending on the need; pla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APPROPRIATE  ASSESSMENT (data)</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How is each component of the Reading Curriculum being assessed (to inform teach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level of difficulty is the text and is this increasing over tim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isten to student read and discuss comprehension/refer to student log of rea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process – analysis of Running Records of oral rea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on – discussion/comprehension checklists (not just questions to answ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ency – student reading alou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cabulary–discussion about meaning of words/phra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ing – analysis of Running Records of oral reading and analysing strategies used for spel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of reading – student log of rea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text – conversations with others, ideas presented in reading journ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sponsibilities of teaching years 5-7</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Ensuring students see that reading is enjoyable – establishing a reading habit through sustained independent rea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for now (what are students’ strengths and needs? – learned through confer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Teaching for the future years of school and for life (what will the expectations of students be in years 7-1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nformation should be passed on to the next teachers and how can this be done so that it’s usefu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is known about what you should be do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rticle: Comprehension Instruction in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 </a:t>
            </a:r>
            <a:r>
              <a:rPr b="0" lang="en-US" sz="4000" spc="-1" strike="noStrike">
                <a:solidFill>
                  <a:srgbClr val="ff6600"/>
                </a:solidFill>
                <a:latin typeface="Arial"/>
              </a:rPr>
              <a:t>RECIPROCAL TEACHING – one routine using multiple strategies</a:t>
            </a:r>
            <a:endParaRPr b="0" lang="en-US" sz="4000" spc="-1" strike="noStrike">
              <a:solidFill>
                <a:srgbClr val="000000"/>
              </a:solidFill>
              <a:latin typeface="Arial"/>
            </a:endParaRPr>
          </a:p>
        </p:txBody>
      </p:sp>
      <p:sp>
        <p:nvSpPr>
          <p:cNvPr id="77"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using:</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Predic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ying meaning (</a:t>
            </a:r>
            <a:r>
              <a:rPr b="0" lang="en-US" sz="2800" spc="-1" strike="noStrike">
                <a:solidFill>
                  <a:srgbClr val="0066ff"/>
                </a:solidFill>
                <a:latin typeface="Arial"/>
              </a:rPr>
              <a:t>question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Questioning</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Summaris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earch: 20 sessions will assist struggling readers to improve reading by at least 1.5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Q3R </a:t>
            </a:r>
            <a:r>
              <a:rPr b="0" lang="en-US" sz="4000" spc="-1" strike="noStrike">
                <a:solidFill>
                  <a:srgbClr val="000000"/>
                </a:solidFill>
                <a:latin typeface="Arial"/>
              </a:rPr>
              <a:t>(Survey, Question, Read, Recall/Recite, Review)</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useful for learning how to deal with formal assessments which have questions the student has to provide answers for (a test is a genre that students need to learn ab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strategies used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Survey</a:t>
            </a:r>
            <a:r>
              <a:rPr b="0" lang="en-US" sz="2000" spc="-1" strike="noStrike">
                <a:solidFill>
                  <a:srgbClr val="000000"/>
                </a:solidFill>
                <a:latin typeface="Arial"/>
              </a:rPr>
              <a:t> – predicting, using prior knowledge plus text features such as structure, headings, labels, art/photos, maps, footnotes,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Question </a:t>
            </a:r>
            <a:r>
              <a:rPr b="0" lang="en-US" sz="2000" spc="-1" strike="noStrike">
                <a:solidFill>
                  <a:srgbClr val="000000"/>
                </a:solidFill>
                <a:latin typeface="Arial"/>
              </a:rPr>
              <a:t>– what questions arise during survey? (what are test ques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Read</a:t>
            </a:r>
            <a:r>
              <a:rPr b="0" lang="en-US" sz="2000" spc="-1" strike="noStrike">
                <a:solidFill>
                  <a:srgbClr val="000000"/>
                </a:solidFill>
                <a:latin typeface="Arial"/>
              </a:rPr>
              <a:t> – actively able to use comprehension strategies, thinking about predictions, using text structures, visualising, summarising, (thinking about test ques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Recall/Recite</a:t>
            </a:r>
            <a:r>
              <a:rPr b="0" lang="en-US" sz="2000" spc="-1" strike="noStrike">
                <a:solidFill>
                  <a:srgbClr val="000000"/>
                </a:solidFill>
                <a:latin typeface="Arial"/>
              </a:rPr>
              <a:t> –  summarising, using text structure knowledg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66ff"/>
                </a:solidFill>
                <a:latin typeface="Arial"/>
              </a:rPr>
              <a:t>Review</a:t>
            </a:r>
            <a:r>
              <a:rPr b="0" lang="en-US" sz="2000" spc="-1" strike="noStrike">
                <a:solidFill>
                  <a:srgbClr val="000000"/>
                </a:solidFill>
                <a:latin typeface="Arial"/>
              </a:rPr>
              <a:t> – reviewing total understanding (checking that questions are answer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Question-Answer-Relationship </a:t>
            </a:r>
            <a:r>
              <a:rPr b="1" lang="en-US" sz="3200" spc="-1" strike="noStrike">
                <a:solidFill>
                  <a:srgbClr val="000000"/>
                </a:solidFill>
                <a:latin typeface="Arial"/>
              </a:rPr>
              <a:t>(QAR)</a:t>
            </a:r>
            <a:br>
              <a:rPr sz="4000"/>
            </a:b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ssists students to figure out how to go about answering questions being asked about a given text.</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ocuses on the relationship that exists between the question, the text, and the background knowledge of the reader.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udents are taught to use four question/answer relationships (QARs) to find the information needed to answer a question –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Right There (in the text - literal – detail)</a:t>
            </a:r>
            <a:r>
              <a:rPr b="0" lang="en-AU"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Think and Search (in the text - some searching and cross text connections required)</a:t>
            </a:r>
            <a:r>
              <a:rPr b="0" lang="en-AU" sz="2000" spc="-1" strike="noStrike">
                <a:solidFill>
                  <a:srgbClr val="000000"/>
                </a:solidFill>
                <a:latin typeface="Arial"/>
              </a:rPr>
              <a:t>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Author and me</a:t>
            </a:r>
            <a:r>
              <a:rPr b="0" lang="en-AU" sz="2000" spc="-1" strike="noStrike">
                <a:solidFill>
                  <a:srgbClr val="000000"/>
                </a:solidFill>
                <a:latin typeface="Arial"/>
              </a:rPr>
              <a:t> (</a:t>
            </a:r>
            <a:r>
              <a:rPr b="0" i="1" lang="en-AU" sz="2000" spc="-1" strike="noStrike">
                <a:solidFill>
                  <a:srgbClr val="000000"/>
                </a:solidFill>
                <a:latin typeface="Arial"/>
              </a:rPr>
              <a:t>comes from student’s background knowledge, but students need to have read and understood the text – inferential) </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On My Own (relates to text, but the student could answer even if they had never read the text - ideas and information come from student’s background knowled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VOCABULARY</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de reading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stablishment of an environment that promotes word conscious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licit instruction of word learning strategies: selection of words, context clues, meaning of word parts, multiple resources, discussion with others, realisation that words have multiple meanings – which is most suitab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LUENCY</a:t>
            </a:r>
            <a:r>
              <a:rPr b="0" lang="en-US" sz="4000" spc="-1" strike="noStrike">
                <a:solidFill>
                  <a:srgbClr val="000000"/>
                </a:solidFill>
                <a:latin typeface="Arial"/>
              </a:rPr>
              <a:t> </a:t>
            </a:r>
            <a:r>
              <a:rPr b="0" lang="en-US" sz="3200" spc="-1" strike="noStrike">
                <a:solidFill>
                  <a:srgbClr val="000000"/>
                </a:solidFill>
                <a:latin typeface="Arial"/>
              </a:rPr>
              <a:t>(rate, phrasing, expression)</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readings by student, firstly listening, then reading with, then independ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 oral reading experiences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dio reading/webcasts, Shared Reading, choral reading, Readers Theatre, poetry club, rehearsed Read Aloud to an audience, paired reading, read along with CDs/DVDs/ip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Agenda</a:t>
            </a:r>
            <a:br>
              <a:rPr sz="4000"/>
            </a:b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a:t>
            </a:r>
            <a:br>
              <a:rPr sz="2000"/>
            </a:br>
            <a:r>
              <a:rPr b="0" lang="en-US" sz="2000" spc="-1" strike="noStrike">
                <a:solidFill>
                  <a:srgbClr val="000000"/>
                </a:solidFill>
                <a:latin typeface="Arial"/>
              </a:rPr>
              <a:t>comprehension strategies</a:t>
            </a:r>
            <a:br>
              <a:rPr sz="2000"/>
            </a:br>
            <a:r>
              <a:rPr b="0" lang="en-US" sz="2000" spc="-1" strike="noStrike">
                <a:solidFill>
                  <a:srgbClr val="000000"/>
                </a:solidFill>
                <a:latin typeface="Arial"/>
              </a:rPr>
              <a:t>reading curriculum</a:t>
            </a:r>
            <a:br>
              <a:rPr sz="2000"/>
            </a:br>
            <a:r>
              <a:rPr b="0" lang="en-US" sz="2000" spc="-1" strike="noStrike">
                <a:solidFill>
                  <a:srgbClr val="000000"/>
                </a:solidFill>
                <a:latin typeface="Arial"/>
              </a:rPr>
              <a:t>gradual release of responsibility</a:t>
            </a:r>
            <a:br>
              <a:rPr sz="2000"/>
            </a:br>
            <a:r>
              <a:rPr b="0" lang="en-US" sz="2000" spc="-1" strike="noStrike">
                <a:solidFill>
                  <a:srgbClr val="000000"/>
                </a:solidFill>
                <a:latin typeface="Arial"/>
              </a:rPr>
              <a:t>independent reading (see checklist)</a:t>
            </a:r>
            <a:br>
              <a:rPr sz="2000"/>
            </a:br>
            <a:r>
              <a:rPr b="0" lang="en-US" sz="2000" spc="-1" strike="noStrike">
                <a:solidFill>
                  <a:srgbClr val="000000"/>
                </a:solidFill>
                <a:latin typeface="Arial"/>
              </a:rPr>
              <a:t>classroom/area library (see checkli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ferring with students/appropriate assess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of teaching years 5-7 (What is definitely known about comprehension instru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differentiated instruction/all domai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ehension routines – RT, QAR, SQ3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cabular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en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o nex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CODING</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s the most appropriate way to use knowledge of phonics for the following wor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l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isenfranchis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pecialis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reading, should students be taught that using of phonetic strategies means “sounding out” from the beginning of the word? How does this link to teaching spelling? How important is onset/rime work and learning about prefixes, suffixes, compound wor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ch words should students automatically be able to read? How does this link to teaching spelling? How are these words best lear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Eurostile"/>
              </a:rPr>
              <a:t>Effective teachers of comprehension </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comprehension strategies</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eaching with a variety of text types</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teaching and learning using a gradual release of responsibility model</a:t>
            </a:r>
            <a:endParaRPr b="0" lang="en-US" sz="2800" spc="-1" strike="noStrike">
              <a:solidFill>
                <a:srgbClr val="000000"/>
              </a:solidFill>
              <a:latin typeface="Arial"/>
            </a:endParaRPr>
          </a:p>
          <a:p>
            <a:pPr marL="343080" indent="-343080">
              <a:lnSpc>
                <a:spcPct val="80000"/>
              </a:lnSpc>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at comprehension teaching does not stand alone (fluency, decoding, vocabulary &amp; world knowledge influence comprehension)</a:t>
            </a:r>
            <a:endParaRPr b="0" lang="en-US" sz="2800" spc="-1" strike="noStrike">
              <a:solidFill>
                <a:srgbClr val="000000"/>
              </a:solidFill>
              <a:latin typeface="Arial"/>
            </a:endParaRPr>
          </a:p>
          <a:p>
            <a:pPr marL="343080" indent="0">
              <a:lnSpc>
                <a:spcPct val="8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Eurostile"/>
              </a:rPr>
              <a:t>Comprehension Strategi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ion/Prior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nd Questio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lo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Structure and Fe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ising and Visual Represen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mmari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LL YEAR  LEVELS and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he Reading Curriculum</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sing a range of “texts” (a variety of fiction and factual genres), within the context of authentic reading situations in all domains, the reading curriculum includes the teaching and learning abou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ading process – sampling the text, predicting the content and continually confirming or self-correcting and using syntactic, semantic, graphophonic cues to construct mean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hension strategies – predicting/prior knowledge, questioning, thinking-aloud, using text structures and features, visualising, summari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cabulary (affected by world knowled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uency – expression, phrasing, ra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oding (not just “sounding ou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o read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select appropriate (“just right”) texts for </a:t>
            </a:r>
            <a:r>
              <a:rPr b="1" lang="en-US" sz="1800" spc="-1" strike="noStrike">
                <a:solidFill>
                  <a:srgbClr val="0066ff"/>
                </a:solidFill>
                <a:latin typeface="Arial"/>
              </a:rPr>
              <a:t>independent reading</a:t>
            </a:r>
            <a:r>
              <a:rPr b="1" lang="en-US" sz="1800" spc="-1" strike="noStrike">
                <a:solidFill>
                  <a:srgbClr val="000000"/>
                </a:solidFill>
                <a:latin typeface="Arial"/>
              </a:rPr>
              <a:t> and about the selection of easy or challenging texts for a range of purpo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HAT IS INDEPENDENT READING?</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ding with 95% or higher accuracy rate and understanding what is being rea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9999"/>
                </a:solidFill>
                <a:uFillTx/>
                <a:latin typeface="Arial"/>
              </a:rPr>
              <a:t>SMART</a:t>
            </a:r>
            <a:r>
              <a:rPr b="0" lang="en-US" sz="2800" spc="-1" strike="noStrike">
                <a:solidFill>
                  <a:srgbClr val="009999"/>
                </a:solidFill>
                <a:latin typeface="Arial"/>
              </a:rPr>
              <a:t> </a:t>
            </a:r>
            <a:r>
              <a:rPr b="0" lang="en-US" sz="2800" spc="-1" strike="noStrike">
                <a:solidFill>
                  <a:srgbClr val="000000"/>
                </a:solidFill>
                <a:latin typeface="Arial"/>
              </a:rPr>
              <a:t>readers know how to select just right book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your school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often are students reading independently in all domai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eachers conferring with students at this time to learn about students’ strengths and nee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SEARC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veral studies have produced consistent findings showing positive correlations between the volume of independent reading and reading comprehension and vocabulary develop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llington, Richard.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691920"/>
            <a:ext cx="821844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eaching model: Gradual release of responsibility </a:t>
            </a:r>
            <a:endParaRPr b="0" lang="en-US" sz="4000" spc="-1" strike="noStrike">
              <a:solidFill>
                <a:srgbClr val="000000"/>
              </a:solidFill>
              <a:latin typeface="Arial"/>
            </a:endParaRPr>
          </a:p>
        </p:txBody>
      </p:sp>
      <p:sp>
        <p:nvSpPr>
          <p:cNvPr id="63"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ad aloud</a:t>
            </a:r>
            <a:r>
              <a:rPr b="0" lang="en-US" sz="2800" spc="-1" strike="noStrike">
                <a:solidFill>
                  <a:srgbClr val="000000"/>
                </a:solidFill>
                <a:latin typeface="Arial"/>
              </a:rPr>
              <a:t> –TO students, with explicit demonstration of strategies and purpose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hared reading</a:t>
            </a:r>
            <a:r>
              <a:rPr b="0" lang="en-US" sz="2800" spc="-1" strike="noStrike">
                <a:solidFill>
                  <a:srgbClr val="000000"/>
                </a:solidFill>
                <a:latin typeface="Arial"/>
              </a:rPr>
              <a:t> – WITH students, collaboratively working on strategies – using an enlarged tex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uided reading</a:t>
            </a:r>
            <a:r>
              <a:rPr b="0" lang="en-US" sz="2800" spc="-1" strike="noStrike">
                <a:solidFill>
                  <a:srgbClr val="000000"/>
                </a:solidFill>
                <a:latin typeface="Arial"/>
              </a:rPr>
              <a:t> – WITH &amp; BY students (supported with scaffolds – needs and strengths assessed during the independent reading time; reinforcing effective strategies) </a:t>
            </a:r>
            <a:r>
              <a:rPr b="0" lang="en-US" sz="2800" spc="-1" strike="noStrike">
                <a:solidFill>
                  <a:srgbClr val="ff0000"/>
                </a:solidFill>
                <a:latin typeface="Arial"/>
              </a:rPr>
              <a:t>Plus other small group task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dependent reading</a:t>
            </a:r>
            <a:r>
              <a:rPr b="0" lang="en-US" sz="2800" spc="-1" strike="noStrike">
                <a:solidFill>
                  <a:srgbClr val="000000"/>
                </a:solidFill>
                <a:latin typeface="Arial"/>
              </a:rPr>
              <a:t> – BY students (teacher confers with students – this is the real data that informs teach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lanning of teaching and learning</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reading block or in English cla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ross all doma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04:06:55Z</dcterms:created>
  <dc:creator>Diane Snnowball</dc:creator>
  <dc:description/>
  <dc:language>en-US</dc:language>
  <cp:lastModifiedBy>Diane Snnowball</cp:lastModifiedBy>
  <dcterms:modified xsi:type="dcterms:W3CDTF">2009-10-16T02:45:55Z</dcterms:modified>
  <cp:revision>32</cp:revision>
  <dc:subject/>
  <dc:title>Continuing Comprehension Teaching and Learning</dc:title>
</cp:coreProperties>
</file>